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BF72-4B9A-4910-9441-659F7668A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6EC4-30E4-48FE-B429-6AD4C9875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3CB-071A-4B93-9A37-4B43B8A5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090-7ACC-4BF3-AA65-A019E89A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6E6-32A3-4E1F-9D19-8D5DEA8D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414-8667-480F-A951-150AE3AE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494-182C-4EA1-A0CA-43E88342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519-B5C6-471F-BA78-B850D12F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A15-1F7B-4842-90B4-65E2F553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DC3-5B7F-4BC7-B5B6-07196DE8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5AF-9650-429E-8935-F6990053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3E8-AB3E-4146-B3F7-FF4F0694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971-CA4C-45D5-985C-B2B52233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6BB-2FDF-40FE-9AF4-F72604B2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023B-0FAC-470D-A59F-290B4DBA8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firstplaceschool.org/education/omangapweb2007_files/master31_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143000" y="19051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Welcome to Open Hou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Miss Steve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2</a:t>
            </a:r>
            <a:r>
              <a:rPr b="1" lang="en-US" sz="5400" spc="-1" strike="noStrike" baseline="30000">
                <a:solidFill>
                  <a:srgbClr val="ffffff"/>
                </a:solidFill>
                <a:latin typeface="Bradley Hand ITC"/>
              </a:rPr>
              <a:t>nd</a:t>
            </a: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 Grad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radley Hand ITC"/>
              </a:rPr>
              <a:t>Room 12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firstplaceschool.org/education/omangapweb2007_files/master31_back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286000" y="45720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Daily Schedu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85800" y="1447920"/>
            <a:ext cx="8001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8:25-9:00 Get Ready Time / Morning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9:00-9:10  M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9:10-9:50  Special  (A-Art, B-P.E., C-Mus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9:50-10:40  M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10:40-11:40  Lunch / Re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11:40-12:10  Spelling / Phon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12:10-1:25  Rea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1:25-1:35  Snack / Silent 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1:35-2:20  Social Studies / Sc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2:20-3:00  Writer’s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3:00-3:10  Pack up / Home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Computer Lab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           Library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Typing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Fridays 1:05-1:45             Tuesdays 1:45-2:15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               T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Behavior Manageme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Stop L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Green = Great Job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Yellow = W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Orange = Lose 5 minutes of re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Red = Lose 15 minutes of re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Bradley Hand ITC"/>
              </a:rPr>
              <a:t>Oops Notice will be sent home if a student is on orange or red.  They will need to be signed and returned the following day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firstplaceschool.org/education/omangapweb2007_files/master31_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133720" y="4572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radley Hand ITC"/>
              </a:rPr>
              <a:t>Curriculu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066680" y="15238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Based on standards set by th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Ma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 Homelinks Book, Problem Solving, Graphing, Un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Assessments, + and – (not for gra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Textbook home on Tuesdays, Fresh Reads, Grammar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Story Assessment, Story M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Spe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Spelling Pretest, Spelling Wor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Social Studies and Sc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Unit Assess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firstplaceschool.org/education/omangapweb2007_files/master31_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133720" y="53352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Misc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762120" y="1523880"/>
            <a:ext cx="8381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Grades – Progress Book, %s, Interi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Standardized Tests – 2 tests in the wi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(achievement) and (abi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Assignment Books – sign / n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Homework – 20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Scholastic Book 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Water Bott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-Projects (tre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firstplaceschool.org/education/omangapweb2007_files/master31_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286000" y="53352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School Polici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838080" y="1371600"/>
            <a:ext cx="8305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No toys from home at recess, 25 degrees with wind c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Send in a note when your child returns from an absence.  No make-up work until after student comes ba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Vacations must be preapproved by the prin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Send in a note if there is a change in transportation.  If you call in, the cut off time is 1:3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Birthday treats are passed out at lunch, please try and let me know ahead of tim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EZPay – Pay lunch account and school fees ($96.14) on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Principals Newsletters 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Lunch Money –Send in a marked envelope (child’s name, my name, amount, and lunch money wr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-Box t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firstplaceschool.org/education/omangapweb2007_files/master31_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2133720" y="53352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ontact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990720" y="167652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Email – Kstevens@springboro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Phone – (937) 748-60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Webpage - www.springboro.wikispaces.com/kstev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20:51:42Z</dcterms:created>
  <dc:creator>Katie Stevens</dc:creator>
  <dc:description/>
  <dc:language>en-US</dc:language>
  <cp:lastModifiedBy>Katie Stevens</cp:lastModifiedBy>
  <dcterms:modified xsi:type="dcterms:W3CDTF">2010-08-31T20:36:05Z</dcterms:modified>
  <cp:revision>11</cp:revision>
  <dc:subject/>
  <dc:title>Slide 1</dc:title>
</cp:coreProperties>
</file>